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95F9-5D4D-4AB2-A91A-13BF34C6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531-7F5F-43F5-BA64-0BF30BF2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18E-061A-4476-9E5D-665A8D0B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125D-EEAC-4BD6-B98C-8853A301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08F-DDA5-436A-8085-3A8F0B26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E9D-4A48-4F5F-81F0-5A0D2338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C30-A76A-4C77-A559-BB446F8B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FB8-1AFB-4815-B7A3-28456547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850-C575-4ED7-9987-EC1056EA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256-C13C-4728-B69D-6C226B0D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F3E9-E65F-4370-98F9-2A7987B6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89F-DD30-4768-BD99-BAC4CD93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80A0-968C-41E7-8516-144FDC86D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12.statcan.ca/english/profil01/CP01/Index.cfm?Lang=E" TargetMode="External"/><Relationship Id="rId2" Type="http://schemas.openxmlformats.org/officeDocument/2006/relationships/hyperlink" Target="http://www12.statcan.ca/english/profil01/CP01/Search/List/Page.cfm?Lang=E&amp;GeoCode=10" TargetMode="External"/><Relationship Id="rId3" Type="http://schemas.openxmlformats.org/officeDocument/2006/relationships/hyperlink" Target="http://www12.statcan.ca/english/profil01/CP01/Search/List/Page.cfm?Lang=E&amp;GeoCode=11" TargetMode="External"/><Relationship Id="rId4" Type="http://schemas.openxmlformats.org/officeDocument/2006/relationships/hyperlink" Target="http://www12.statcan.ca/english/profil01/CP01/Search/List/Page.cfm?Lang=E&amp;GeoCode=12" TargetMode="External"/><Relationship Id="rId5" Type="http://schemas.openxmlformats.org/officeDocument/2006/relationships/hyperlink" Target="http://www12.statcan.ca/english/profil01/CP01/Search/List/Page.cfm?Lang=E&amp;GeoCode=13" TargetMode="External"/><Relationship Id="rId6" Type="http://schemas.openxmlformats.org/officeDocument/2006/relationships/hyperlink" Target="http://www12.statcan.ca/english/profil01/CP01/Search/List/Page.cfm?Lang=E&amp;GeoCode=24" TargetMode="External"/><Relationship Id="rId7" Type="http://schemas.openxmlformats.org/officeDocument/2006/relationships/hyperlink" Target="http://www12.statcan.ca/english/profil01/CP01/Search/List/Page.cfm?Lang=E&amp;GeoCode=35" TargetMode="External"/><Relationship Id="rId8" Type="http://schemas.openxmlformats.org/officeDocument/2006/relationships/hyperlink" Target="http://www12.statcan.ca/english/profil01/CP01/Search/List/Page.cfm?Lang=E&amp;GeoCode=46" TargetMode="External"/><Relationship Id="rId9" Type="http://schemas.openxmlformats.org/officeDocument/2006/relationships/hyperlink" Target="http://www12.statcan.ca/english/profil01/CP01/Search/List/Page.cfm?Lang=E&amp;GeoCode=47" TargetMode="External"/><Relationship Id="rId10" Type="http://schemas.openxmlformats.org/officeDocument/2006/relationships/hyperlink" Target="http://www12.statcan.ca/english/profil01/CP01/Search/List/Page.cfm?Lang=E&amp;GeoCode=48" TargetMode="External"/><Relationship Id="rId11" Type="http://schemas.openxmlformats.org/officeDocument/2006/relationships/hyperlink" Target="http://www12.statcan.ca/english/profil01/CP01/Search/List/Page.cfm?Lang=E&amp;GeoCode=59" TargetMode="External"/><Relationship Id="rId12" Type="http://schemas.openxmlformats.org/officeDocument/2006/relationships/hyperlink" Target="http://www12.statcan.ca/english/profil01/CP01/Search/List/Page.cfm?Lang=E&amp;GeoCode=60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movement of population away from their home region, either from one country to another (international migration) or from one part of a country to another (internal migratio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ion is a permanent (or long-term) movement, which involves the break-up of a person's residential and socia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leave areas due to push factors and are drawn to areas by pull 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iers such as cost, language, politics, and knowledge also influence mig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 and Pul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tends to repel people from an area. Examples are crop failure, pollution, natural disasters, and poor living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tends to attract people to an area. Examples include higher wages, better housing, and better educational opportun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12.statcan.ca/english/profil01/CP01/Index.cfm?Lang=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from a list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ewfoundland and Labra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ince Edward Is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ova Scot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ew Brunswi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Québ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nt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anitob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Saskatchew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lber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British Columb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Yukon Terri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Northwest Territories | Nunav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066680" y="46483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province(s)  that make up most of your region. Divide the task between members of your group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ild Your 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: Immigration Characteristics - then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“Foreign Born Population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immigrated before 199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most of the population born in Canada or foreign born for your prov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www40.statcan.gc.ca/l01/cst01/demo34b-eng.ht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provinces that are represented in your geographic region (on left side of web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birth countries of the top four immigrant groups in the provi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“Europe” you should specify which part of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 information from both websites in a Word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add the information to the Ma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for you to put on th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eign Born Population for each province represented in your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immigrants before 19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most of the population born in Canada or foreign born for your prov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rth countries of the top four immigrant groups in the provi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3:47:34Z</dcterms:created>
  <dc:creator>NBDOE</dc:creator>
  <dc:description/>
  <dc:language>en-US</dc:language>
  <cp:lastModifiedBy>DT06</cp:lastModifiedBy>
  <dcterms:modified xsi:type="dcterms:W3CDTF">2009-11-25T13:19:03Z</dcterms:modified>
  <cp:revision>9</cp:revision>
  <dc:subject/>
  <dc:title>Go to http://www12.statcan.ca/english/profil01/CP01/Index.cfm?Lang=E </dc:title>
</cp:coreProperties>
</file>